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2264-96D8-417D-AFD2-2E0822EB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983-77AE-4924-A3A1-69107F4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6C-C12D-49E2-A483-E768F720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89B-CA37-4C7F-94C7-51A060DD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871-A9F7-4E01-ABAB-2987391C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2BD-4018-4FB9-97E6-5ED8C6E1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F5D-45BA-4686-8684-14FAB55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B36-AFD6-42BB-AF27-99E81EE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D20-1A08-473F-B113-D9ACBE29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21C-DA84-4207-963B-30E0B1AB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774-CCAA-48E8-A4AE-4DB85451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464-419F-4B53-B434-B0517E8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E71-4321-41AD-84CB-131C1CAD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Thierry So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 bonita y mo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1895400"/>
            <a:ext cx="9753840" cy="10648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sal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B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bella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uatro bonit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 Pati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onita pati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1430000" cy="7620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J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jarden gran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 neuvo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20:43Z</dcterms:created>
  <dc:creator>sousathi</dc:creator>
  <dc:description/>
  <dc:language>en-US</dc:language>
  <cp:lastModifiedBy>sousathi</cp:lastModifiedBy>
  <dcterms:modified xsi:type="dcterms:W3CDTF">2013-04-11T18:09:49Z</dcterms:modified>
  <cp:revision>7</cp:revision>
  <dc:subject/>
  <dc:title>La Casa</dc:title>
</cp:coreProperties>
</file>